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236F-119C-4CEA-B192-8E37E66B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987-027F-46A3-8984-4523A4D0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AA3-BE77-41F7-8BF0-78816CB3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030-86AD-460C-B680-F8185EE7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58CAA-CA72-48DF-B336-40544AFC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B3436-5B2B-40CD-95F3-D7DA26D9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EC251-71F4-4ED4-99AF-0C8987B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CF299-6580-46E9-A19E-667B370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C8622-2F1C-43EC-9275-BB885976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E101D-8CE9-4C40-9FE9-366E26A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AD063-DEA8-4900-9D3B-7DE704C0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8D2-7D3A-4773-938A-6168B65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86B15-F4B8-4C8F-ACB0-425537E5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AEDB-EE99-49CC-BF5A-B5DC2DD3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49715-9CD3-4524-90B4-098BB060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EF0DF-5EB0-4E2A-A520-50DA2BD2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D8CAA-33DC-443D-9393-9E1340F1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E43-127B-4A84-AC8E-1F27E3EE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41F-84DE-4E72-BAB8-0573AE86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12E-2B1F-4A80-BE87-89B0FC2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D1F-9ECC-44FA-8523-708A8EC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A0C-3CB3-41EC-A4C3-604F1AA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AAD-4A69-4E7A-993B-9E01096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63F-C1B2-48D6-BB9A-95C9C7E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B5A-24AA-46F7-9106-CDCE3925C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50A6-7E89-45BF-A175-567274076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E:/TITANIC%20project/Titanic__Anatomy_of_a_Disaster.as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Titan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’Anatomy d’un Désast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MSj03882890000[1].wav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659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8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isez une barre analogique montrant les passagers de premier, de deux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è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t de troisième classe, en utilisant les nombres à la page 15 de votre tex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9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z maintenant votre barre avec celui de votre texte. Qu’est-ce que vous remarquez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 Res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e de sciences humaines, pages 14 – 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eo: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itanic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Anatomy of a Disas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Interne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e Titan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eci est un projet de recherche qui incorpore votre texte, des vid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éos, et l’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e projet peut se faire en groupe de 2 maxim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’enseignant a le droit de diviser/s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é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parer les groupes si les r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èglements ne sont pas suivit. Ne pas respecter les 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  <a:ea typeface="Tahoma"/>
              </a:rPr>
              <a:t>èglements indique que tu veux faire le projet par toi-mêm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âch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rechercher et documenter de l’information sur le Titanic.  Utilise toutes les sources données, et ensuite documente l’information. Divise les question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galement entre les membres du group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’est une bonne 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e de prendre des notes durant le processus de recherche. (en lisant, regardant le film, …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.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que membre est responsable pour rechercher TOUTES les sources (texte, v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o, internet) puisque l’information se trouve à travers le média, et non pas dans un endroit seu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que membre devrait guarder en note toute l’information trou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insi que l’endroit 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ù l’information se trouv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sque vous avez trou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é assez d’information pour répondre à vos questions, il faut organiser vos trouvailles dans votre projet final.  L’utilisation d’images est aussi encourag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6" descr="MCj02925940000[1]"/>
          <p:cNvPicPr/>
          <p:nvPr/>
        </p:nvPicPr>
        <p:blipFill>
          <a:blip r:embed="rId1"/>
          <a:stretch/>
        </p:blipFill>
        <p:spPr>
          <a:xfrm>
            <a:off x="3809880" y="50292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s Question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1912, que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était le prix pour une cabine de 3 chambres avec une promenade sur le Titanic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lle classe avait le droit d’occuper une cabine de 3 chambre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en d`étages avait le Titanic?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en d’ascenseurs  y avait-il dans chaque classe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’est-ce qu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était utilisé pour glisser le Titanic dans l’eau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bien de temps est-ce que cela à pris pour glisser le Titanic dans l’eau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ls items, incluant la nourriture, o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té pris durant le premier voyage du Titanic?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un résumé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bien de personnes riches se trouvaient en prem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è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lasse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tait la personne la plus riche abord le Titanic? Ce personne a-t-il/elle survéc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lle est la position absolue de l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pave du Titanic? 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oordonée géographiq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720" y="-258120"/>
            <a:ext cx="434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lle date Titanic est-il descend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2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’est-ce qui a ca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 la descente du Titanic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bien de personnes ont sur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écu? Combien de personnes sont morts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4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quelle classe plus de personnes sont-elles mortes ? Viva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15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Quels progrès technologiques ont été présentés pour la  première fois sur Titanic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6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l était l'itinéraire pris par Titanic avant la descente (conseil : Elle a fait trois arrêts, y compris le fond océaniqu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7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utilisant GoogleEarth, sauve un image montrant les arrêts du Titan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46:23Z</dcterms:created>
  <dc:creator>Administrator</dc:creator>
  <dc:description/>
  <dc:language>en-US</dc:language>
  <cp:lastModifiedBy>ED18</cp:lastModifiedBy>
  <dcterms:modified xsi:type="dcterms:W3CDTF">2014-12-08T01:56:42Z</dcterms:modified>
  <cp:revision>35</cp:revision>
  <dc:subject/>
  <dc:title>Titanic</dc:title>
</cp:coreProperties>
</file>